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8326E-A771-4952-8661-EFC87B99A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need to know the names of the families and their properties! The Lanthanides and the Actinides are transition metals as wel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A17D4-1F81-43EB-8121-F36E4B847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roups (vertical columns found in the periodic table) are called families.  Note that the transition metals are not on this l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lements in each group (or family) share many physical and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xt lecture we will be discussing trends in the periodic table.  However, one trend in the periodic table is that elements of the same family share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04C80-5F2C-4B92-ACFD-D3A4E81ED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Alkali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valenc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CDF1F-B1A6-4E73-84E0-9075670B9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alkali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+1 ion, because they give up their one valence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salts with elements from the halogen family (eg. NaCl is table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 spontaneously with oxygen or mois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 lot of heat when reacting.  So much so, they effectively expl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s used in making paper, making soap, in oven clea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and potassium are important in transmitting nerve impulses in y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228DD-7FA9-4574-935E-67D1FA055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alkaline earth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y soft and light-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y-gr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3A1F6-EB51-4A0E-B75B-5AE067D48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alkaline earth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airplane jet en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s corrosion, so they are good for cars and bi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s fast and brightly in oxy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or your heart, and for muscle contr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fireworks to give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EC7AC-7D30-4831-9794-696298F93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E90-E550-4D3E-B249-783A79A8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D21-9036-4BA9-A35B-16D34AB8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9D9-A167-4156-ABF1-2BDB09A4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F23-8A44-4CC0-BEF4-D42AEFB6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7FF-E391-46A6-AAE5-DB6A99B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294-D521-4F82-A670-94912BB8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AEF-6C97-44C8-84B6-5355B6B1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D1B-86C7-482A-A44C-1A6D748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FC0-0E32-4988-AC99-9C47476E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C77-ADA1-49CD-BAF2-5193ACE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6AC-50C6-4E3C-AE43-87F4320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029-E63E-4344-A90F-00AB033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9AC5C-8DB6-46CF-9FF7-51A151C74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: Families of 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kali 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kaline Earth 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68240" y="4343400"/>
            <a:ext cx="7543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824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tha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4456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36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8240" y="48769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20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360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778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16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644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072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9500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3780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378080" y="4038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5492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54928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98756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 rot="16243800">
            <a:off x="-296640" y="225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 rot="16225200">
            <a:off x="-357840" y="2313360"/>
            <a:ext cx="297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 rot="16222200">
            <a:off x="7208640" y="244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 rot="16205400">
            <a:off x="7551360" y="2405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6200000">
            <a:off x="5227200" y="255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16219200">
            <a:off x="5570280" y="2513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16171200">
            <a:off x="5951160" y="251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6200000">
            <a:off x="6484680" y="2589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1752480"/>
            <a:ext cx="8153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(Group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(Group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 (Group 3 or 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 (Group 4 or 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 (Group 5 or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 (Group 6 or 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(Group 7 or 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Group 8 or 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057400" y="3808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ain Group Elem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304920" y="304920"/>
            <a:ext cx="51274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lkali Met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1538280"/>
            <a:ext cx="5979960" cy="349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5235480" y="4076640"/>
            <a:ext cx="3908520" cy="278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161040" y="968400"/>
            <a:ext cx="278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include lithium (Li), sodium (Na), potassium (K), rubidium (Rb), cesium (Cs), and francium (F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14840" y="3460680"/>
            <a:ext cx="4529160" cy="339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36600" y="317520"/>
            <a:ext cx="4795920" cy="319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36600" y="4167360"/>
            <a:ext cx="38401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04920" y="380880"/>
            <a:ext cx="61117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lkaline Earth Met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1692360"/>
            <a:ext cx="5573880" cy="4179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603840" y="533520"/>
            <a:ext cx="254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include beryllium (Be), magnesium (Mg), calcium (Ca), strontium (Sr), barium (Ba), and radium (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5243400" y="3965400"/>
            <a:ext cx="3900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3789360"/>
            <a:ext cx="4484520" cy="306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48452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4484520" y="601560"/>
            <a:ext cx="46594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4:01:04Z</dcterms:created>
  <dc:creator>Staff</dc:creator>
  <dc:description/>
  <dc:language>en-US</dc:language>
  <cp:lastModifiedBy>Staff</cp:lastModifiedBy>
  <dcterms:modified xsi:type="dcterms:W3CDTF">2014-05-15T13:40:40Z</dcterms:modified>
  <cp:revision>8</cp:revision>
  <dc:subject/>
  <dc:title>Lecture: Families of the Periodic Table</dc:title>
</cp:coreProperties>
</file>